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3FC-F326-475F-A854-79E48897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2D3-B969-438F-9738-83D68CDB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854-71DD-40F6-BEE6-4BF62610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0FB-8987-4EAD-B1C2-B14CBC5B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261B-2423-404E-9E05-3DA01191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B646-7C72-43A8-96B0-E67F8EDA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4B7A-E020-4760-9D9C-85BF6BA7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2BBC-0A3C-4802-ACB6-7F729615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9F3A-F65C-4BAA-9754-F40BF411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0E16-0DEB-4182-8F1D-E42A2666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111D-A554-4094-B198-9044AE5C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5BB-0DB9-4799-AA87-D909899E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0305-7D49-4C4C-97F7-59966FDD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A41E-3941-4E56-9ECC-B7ECD624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C77F-BB0B-4F9B-964C-4FB7BB01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3A24-F11D-47F7-B44A-3414C4F2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F8EB-EA4C-4797-BDE2-0ACE3990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202-959F-49BC-A1E6-A6CFE341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C30-AEAF-4AB1-9D93-D1827377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A20-CD4E-4217-9F8B-4D039EC1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5BE-9B2C-4133-A59C-0114800B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AE0-8C43-45FB-A810-2DA553EE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DCC-5A1E-4A00-8D82-D9D7FC49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D4A-972F-4364-8574-D8B4B28A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75FE-600E-4E78-957A-98FF6E3EC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1D26-3257-42F0-9D4A-0D28472D8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Graphing Lines Using Inter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Goa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Find the intercepts and use them to graph th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inter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i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, put a 0 i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34480" y="3505320"/>
            <a:ext cx="22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*0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812240" y="398160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904760" y="5181480"/>
            <a:ext cx="10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1981080" y="4572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904400" y="457200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578040" y="3505320"/>
            <a:ext cx="344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 is 2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e crosses th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 at point (0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7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appropriate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learned in the previous example that the x-intercept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y-intercept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1905120" y="594360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648320" y="32767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41911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4114800" y="3048120"/>
            <a:ext cx="76212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785840" y="3851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3124800" y="533412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10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681840" y="3962520"/>
            <a:ext cx="280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we must sca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coordinate plane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our  answers 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coordinate plane that includes the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ot the intercepts and draw a line through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intercep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 is the point where a line crosse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 is the point where a line crosse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ake a loo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>
            <a:off x="4267080" y="2590920"/>
            <a:ext cx="1800" cy="3047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1828800" y="4267080"/>
            <a:ext cx="487692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2668680" y="2741760"/>
            <a:ext cx="5713200" cy="243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4404960" y="25527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1890360" y="4229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4329000" y="308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6097320" y="3809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5088960" y="25527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5028480" y="441972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26"/>
          <p:cNvSpPr/>
          <p:nvPr/>
        </p:nvSpPr>
        <p:spPr>
          <a:xfrm>
            <a:off x="4186080" y="3354480"/>
            <a:ext cx="15588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27"/>
          <p:cNvSpPr/>
          <p:nvPr/>
        </p:nvSpPr>
        <p:spPr>
          <a:xfrm>
            <a:off x="617220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2"/>
          <p:cNvPicPr/>
          <p:nvPr/>
        </p:nvPicPr>
        <p:blipFill>
          <a:blip r:embed="rId1"/>
          <a:stretch/>
        </p:blipFill>
        <p:spPr>
          <a:xfrm>
            <a:off x="380880" y="1905120"/>
            <a:ext cx="7696440" cy="4408200"/>
          </a:xfrm>
          <a:prstGeom prst="rect">
            <a:avLst/>
          </a:prstGeom>
          <a:ln w="0">
            <a:noFill/>
          </a:ln>
        </p:spPr>
      </p:pic>
      <p:sp>
        <p:nvSpPr>
          <p:cNvPr id="110" name="Line 7"/>
          <p:cNvSpPr/>
          <p:nvPr/>
        </p:nvSpPr>
        <p:spPr>
          <a:xfrm>
            <a:off x="685800" y="3352680"/>
            <a:ext cx="457200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1752480" y="3962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4114800" y="54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904680" y="5143680"/>
            <a:ext cx="16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….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2"/>
          <p:cNvPicPr/>
          <p:nvPr/>
        </p:nvPicPr>
        <p:blipFill>
          <a:blip r:embed="rId1"/>
          <a:stretch/>
        </p:blipFill>
        <p:spPr>
          <a:xfrm>
            <a:off x="1066680" y="2209680"/>
            <a:ext cx="6934320" cy="3971880"/>
          </a:xfrm>
          <a:prstGeom prst="rect">
            <a:avLst/>
          </a:prstGeom>
          <a:ln w="0">
            <a:noFill/>
          </a:ln>
        </p:spPr>
      </p:pic>
      <p:sp>
        <p:nvSpPr>
          <p:cNvPr id="117" name="Line 7"/>
          <p:cNvSpPr/>
          <p:nvPr/>
        </p:nvSpPr>
        <p:spPr>
          <a:xfrm>
            <a:off x="3505320" y="2209680"/>
            <a:ext cx="480060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996840" y="4876920"/>
            <a:ext cx="16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….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449568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7162920" y="4038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2"/>
          <p:cNvPicPr/>
          <p:nvPr/>
        </p:nvPicPr>
        <p:blipFill>
          <a:blip r:embed="rId1"/>
          <a:stretch/>
        </p:blipFill>
        <p:spPr>
          <a:xfrm>
            <a:off x="838080" y="2057400"/>
            <a:ext cx="6886800" cy="4167360"/>
          </a:xfrm>
          <a:prstGeom prst="rect">
            <a:avLst/>
          </a:prstGeom>
          <a:ln w="0">
            <a:noFill/>
          </a:ln>
        </p:spPr>
      </p:pic>
      <p:sp>
        <p:nvSpPr>
          <p:cNvPr id="124" name="Line 5"/>
          <p:cNvSpPr/>
          <p:nvPr/>
        </p:nvSpPr>
        <p:spPr>
          <a:xfrm>
            <a:off x="320040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1219320" y="2895480"/>
            <a:ext cx="464796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844200" y="2057400"/>
            <a:ext cx="16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….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320040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312408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41911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inter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i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, put a 0 i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58520" y="3505320"/>
            <a:ext cx="22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*0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828080" y="40384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90512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592000" y="4495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829880" y="4495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2057040" y="5257800"/>
            <a:ext cx="10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806280" y="3809880"/>
            <a:ext cx="42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 is 3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int the line cros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 is (3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3:48:24Z</dcterms:created>
  <dc:creator>JRatliff</dc:creator>
  <dc:description/>
  <cp:keywords/>
  <dc:language>en-US</dc:language>
  <cp:lastModifiedBy>CABELL BOE</cp:lastModifiedBy>
  <dcterms:modified xsi:type="dcterms:W3CDTF">2009-08-11T17:34:02Z</dcterms:modified>
  <cp:revision>6</cp:revision>
  <dc:subject/>
  <dc:title>Graphing Lines Using Intercep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33</vt:lpwstr>
  </property>
</Properties>
</file>